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1E0E-2FAD-4A13-A61A-DFA572E7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7B6D-F595-4A31-A1D4-63AC1464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8799-5250-4934-B647-1A5A944A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2DFF-F076-401E-900B-8F414DDD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305E-8CAF-494B-B596-CBF49108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1985-32AB-4F39-86FB-A9FE492F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9B7E-DD5A-4381-B670-E332AD03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B489-F088-4863-BD9C-05FF8248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335A-BAB9-4770-B9E7-49F63FE9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DC9C-5786-46E4-ABAA-F11FBE66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08E3-AB74-40C0-A06D-981435FD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4471-32FA-42FD-B6D5-EC11DDAF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A633-0066-4427-BFE1-1024CF2E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9228-1E18-45AF-A293-D48BC91F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DAE3-3AA1-4AD3-B913-D00C52CD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A507-64D5-4AEB-896B-D8BB1E1D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E775-C3F8-45A2-AE52-49DFD3DF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CCFC9-F094-449A-A2DC-041D11C4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5D909-D68C-40B2-B6B3-6CB9305B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BC1FD-C06C-4F2B-A4E1-3EF6C116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D910C-AADA-49F4-851F-5B186D9F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779ED-348D-4CF9-B66A-C060E446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4290-C34A-4397-9F76-A7DAC90E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A149C-8407-4D38-89E2-6F8CD363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EC0FE-0500-410D-85AB-D31AB994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25A44-837D-4ED5-8512-AAF93A15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3EE26-17FD-467B-8048-D022D7CA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3102D-9FCE-4FC9-9D1F-9313BAE1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09EC0-CA4E-4067-81E3-FCB85385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69D0F-48E6-41EF-9FC8-091B4436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66125-030D-43A9-A847-2DBEB5AF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4F4A0-A710-4684-AA13-5F542D27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5E69A-AF8C-4FF1-B8BC-39FD8913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514C-6BEF-40A7-BCF6-D0EBB87B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AFA72-8EDC-447A-8859-7A82AD4E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6BB39-03D0-4628-8C03-6A8C141A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68633-65DB-48E9-83C8-F20765A8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59389-AC78-4B71-A55C-66DD9516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D7914-095A-42B6-85D6-1FE4017E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7C93B-3E5C-4EA4-A345-D62642E6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ABCC5-C80B-4E27-B7B3-15A62F64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B7502-BF42-4FC0-A339-C468EC62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E2937-30F5-4229-9A1A-7E445A6D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3ED4-4E45-4AC4-A17C-A0F95625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D824-8362-4C49-A2B0-72E7FDF8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296F-702F-4C21-83C0-50036EC7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B3FE-3AD5-4935-9208-FA5B9D3F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E456-CFC0-4540-BFC9-526D2E08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8AAB-391D-45D1-A47B-1FBAD5A1D90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A27F-42B3-4181-96B8-6D076E07C92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3E2E-0B8F-4BBC-89E8-BABA6A65F51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90BB-A2B4-4D04-9561-880A249DB92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429680" y="14292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"/>
          <p:cNvPicPr/>
          <p:nvPr/>
        </p:nvPicPr>
        <p:blipFill>
          <a:blip r:embed="rId2"/>
          <a:stretch/>
        </p:blipFill>
        <p:spPr>
          <a:xfrm>
            <a:off x="3071880" y="4143240"/>
            <a:ext cx="3000240" cy="2714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"/>
          <p:cNvPicPr/>
          <p:nvPr/>
        </p:nvPicPr>
        <p:blipFill>
          <a:blip r:embed="rId3"/>
          <a:stretch/>
        </p:blipFill>
        <p:spPr>
          <a:xfrm>
            <a:off x="6345360" y="0"/>
            <a:ext cx="2798640" cy="2116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"/>
          <p:cNvPicPr/>
          <p:nvPr/>
        </p:nvPicPr>
        <p:blipFill>
          <a:blip r:embed="rId4"/>
          <a:stretch/>
        </p:blipFill>
        <p:spPr>
          <a:xfrm>
            <a:off x="6000840" y="3929040"/>
            <a:ext cx="3143160" cy="292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"/>
          <p:cNvPicPr/>
          <p:nvPr/>
        </p:nvPicPr>
        <p:blipFill>
          <a:blip r:embed="rId5"/>
          <a:stretch/>
        </p:blipFill>
        <p:spPr>
          <a:xfrm>
            <a:off x="0" y="4071960"/>
            <a:ext cx="30718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3000240" y="3960720"/>
            <a:ext cx="3286440" cy="2897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"/>
          <p:cNvPicPr/>
          <p:nvPr/>
        </p:nvPicPr>
        <p:blipFill>
          <a:blip r:embed="rId3"/>
          <a:stretch/>
        </p:blipFill>
        <p:spPr>
          <a:xfrm>
            <a:off x="6286680" y="3857760"/>
            <a:ext cx="2822400" cy="3000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"/>
          <p:cNvPicPr/>
          <p:nvPr/>
        </p:nvPicPr>
        <p:blipFill>
          <a:blip r:embed="rId4"/>
          <a:stretch/>
        </p:blipFill>
        <p:spPr>
          <a:xfrm>
            <a:off x="0" y="4511520"/>
            <a:ext cx="30700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"/>
          <p:cNvPicPr/>
          <p:nvPr/>
        </p:nvPicPr>
        <p:blipFill>
          <a:blip r:embed="rId2"/>
          <a:stretch/>
        </p:blipFill>
        <p:spPr>
          <a:xfrm>
            <a:off x="5857920" y="4214880"/>
            <a:ext cx="3286080" cy="2643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"/>
          <p:cNvPicPr/>
          <p:nvPr/>
        </p:nvPicPr>
        <p:blipFill>
          <a:blip r:embed="rId3"/>
          <a:stretch/>
        </p:blipFill>
        <p:spPr>
          <a:xfrm>
            <a:off x="3071880" y="4500720"/>
            <a:ext cx="2855880" cy="2357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"/>
          <p:cNvPicPr/>
          <p:nvPr/>
        </p:nvPicPr>
        <p:blipFill>
          <a:blip r:embed="rId4"/>
          <a:stretch/>
        </p:blipFill>
        <p:spPr>
          <a:xfrm>
            <a:off x="0" y="4470480"/>
            <a:ext cx="314316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Admin</cp:lastModifiedBy>
  <dcterms:modified xsi:type="dcterms:W3CDTF">2022-11-23T20:21:51Z</dcterms:modified>
  <cp:revision>8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